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8B7-5A21-4169-B2C8-046757D3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381-CC4D-4F42-9A32-C52C449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51B-CDF9-40A9-86B9-E0D1E2E9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1F9-7C64-4616-904D-3A6783DC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EC3-A0E3-45E0-8664-ADB3C92D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B7D8-5086-474A-906F-9B4A3D62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9747-AAE1-4135-BACA-2B6A00C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DE2-F26B-4E68-B9BB-EAC57E7C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4562-8FF9-472F-8E9B-60AB5FD7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C2EF-D961-4CB6-AA67-4EFF482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89B-4922-40F8-9CA2-30E736B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D84-47D8-4DAA-AEED-A229C9D4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314-33FA-4133-8544-F87719D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263-03E5-4809-90C3-936E46A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93C-14F9-4788-9218-791E297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01E-ECA3-4BFC-BCD9-53F802A7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2C0-B682-4388-9A5B-5BE882A1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6ECF-4CF7-441A-BD69-EE4D7E3C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488F-C760-41CB-83C9-2D66DFC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7C34-756E-460F-A82D-2EB0469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62E0-3260-4E77-AE5B-E726BAF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F4E5-3B44-43FE-A3F3-FADF17B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A6A-C4AA-4608-8D76-2D9760AE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3465-35E1-42AD-AAA8-2B23030B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6C76-BB7A-4390-B01B-BC8600D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CA9F-451C-432B-B184-163A71C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042C-F057-43F7-807C-FE6145A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7D02-9BB2-4FB3-953F-31D2E86B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7A6C-9875-4AAC-BB3E-9058B1F3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EB36-5019-4DFD-AA10-EAFA689E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F9D-51BF-4F62-817F-14519C56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865-3E28-4581-9F0A-AAB4678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72A-DC18-42B1-983B-F486CEB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D45-6428-40FE-86D6-7B82F6A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B2E-908E-4CFE-AD46-0D09FF0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EDE-4BE7-461D-BE06-0C3D6C5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B3E-4DD5-47FF-B6EA-11A30CA5F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C00-B30B-4E82-9378-0DCAA28E2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EE90-E3F5-4E9B-A74D-91BFEAE86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rtal-slovo.ru/philology/37393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00"/>
                </a:solidFill>
                <a:latin typeface="Amethyst"/>
              </a:rPr>
              <a:t>Презентация по русскому языку по теме: </a:t>
            </a:r>
            <a:br>
              <a:rPr sz="2900"/>
            </a:br>
            <a:r>
              <a:rPr b="1" lang="ru-RU" sz="3200" spc="-1" strike="noStrike">
                <a:solidFill>
                  <a:srgbClr val="990000"/>
                </a:solidFill>
                <a:latin typeface="Amethyst"/>
              </a:rPr>
              <a:t>«Сложносочиненные предложения».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ыполнила ученица 9 «Б»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Школы №2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унегова Мар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6a6a6"/>
                </a:solidFill>
                <a:latin typeface="Calibri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жносочиненным предложением (ССП) называют такой тип СП, в котором части соединены при помощи сочинительных союз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единении частей с помощью сочинительных союзов части остаются относительно нзависимы друг от друга, между ними устанавливаются равноправные отношения. Более конкретные смысловые отношения выявляются из значения союзов, стоящих между част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В работе использованы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.Г.Бархударов Русский язык 9 класс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f5f5f"/>
                </a:solidFill>
                <a:uFillTx/>
                <a:latin typeface="Constantia"/>
                <a:hlinkClick r:id="rId1"/>
              </a:rPr>
              <a:t>http://www.portal-slovo.ru/philology/37393.ph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676440" y="-268200"/>
            <a:ext cx="8327880" cy="1798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9640" y="1916280"/>
            <a:ext cx="81360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Сложносочиненное 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это сложное предложение, в котором два и более простых предложений связаны сочинительными союзами и интонацией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стра получила письмо, оно было написано по - английс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бо над головой было очень светлое, а к горизонту оно густе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8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800"/>
                            </p:stCondLst>
                            <p:childTnLst>
                              <p:par>
                                <p:cTn id="7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новидности смысловых отношений между частями сложносочиненного предложения: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Organization Chart 6"/>
          <p:cNvGrpSpPr/>
          <p:nvPr/>
        </p:nvGrpSpPr>
        <p:grpSpPr>
          <a:xfrm>
            <a:off x="285840" y="1428840"/>
            <a:ext cx="8460720" cy="4599000"/>
            <a:chOff x="285840" y="1428840"/>
            <a:chExt cx="8460720" cy="459900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36440" y="2246760"/>
              <a:ext cx="920520" cy="29620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2"/>
            </p:cNvCxnSpPr>
            <p:nvPr/>
          </p:nvCxnSpPr>
          <p:spPr>
            <a:xfrm flipV="1">
              <a:off x="4515840" y="3267720"/>
              <a:ext cx="396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2"/>
            </p:cNvCxnSpPr>
            <p:nvPr/>
          </p:nvCxnSpPr>
          <p:spPr>
            <a:xfrm flipH="1" flipV="1" rot="5400000">
              <a:off x="2575440" y="2247120"/>
              <a:ext cx="920520" cy="29620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247200" y="14288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чинит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ю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28584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дноврем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следова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чи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24720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ред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заимоисклю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08560" y="4188240"/>
              <a:ext cx="2538000" cy="18396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тив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50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5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5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5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50"/>
                            </p:stCondLst>
                            <p:childTnLst>
                              <p:par>
                                <p:cTn id="11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50"/>
                            </p:stCondLst>
                            <p:childTnLst>
                              <p:par>
                                <p:cTn id="12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50"/>
                            </p:stCondLst>
                            <p:childTnLst>
                              <p:par>
                                <p:cTn id="13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соединительными союз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773360"/>
            <a:ext cx="3457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оедин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а (=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и…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ак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284720" y="1773360"/>
            <a:ext cx="36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их сложносочиненных предложениях вы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одновре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995640" y="1773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79280" y="44560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углу за печкой трещал сверчок, да издали доносился своеобразный весенний голос домового сычика. (да(=и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 солнца мне не виден свет, ни для корней моих простоту нет. (ни…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5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5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5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95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95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95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95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95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разделительными союз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785600"/>
            <a:ext cx="324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Раздел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…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ли (иль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ибо…либ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е то…не 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 ли…то 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3492360" y="162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43200" y="17859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их сложносочиненных предложениях выражаются 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чер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взаимо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31840" y="4024440"/>
            <a:ext cx="8912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падал как будто туман, то вдруг припускал косой дождь. (то…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бо я все устрою по – прежнему, либо я его на дуэль вызову. (либо…либ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жносочиненные предложения с противительными союз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714320"/>
            <a:ext cx="28908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тивительные союз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е только… но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а (=но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днак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706920" y="1628640"/>
            <a:ext cx="14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071960" y="17859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ложносочиненных предложениях одно явление сопоставляет с другим или противопоставляется друг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79280" y="4149720"/>
            <a:ext cx="87138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олько дети любят компьютерные игры, но и взрослые часто увлекаются ими. (не только…но 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сня над домом смолкла, зато над прудом соловей заводил свою. (за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8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98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8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98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48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98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48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98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48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делительные знаки препинания между частями сложносочиненного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асти сложносочиненного предложения разделяются запят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есь день в лесу был золотой, а вечером заря горела в полнеб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19191"/>
                                      </p:to>
                                    </p:animClr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19191"/>
                                      </p:to>
                                    </p:animClr>
                                    <p:set>
                                      <p:cBhvr>
                                        <p:cTn id="308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092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жду частями сложносочиненного предложени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ногда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авитс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тир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перед союзом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если в предложении содержится резкое противопоставление или указывается на быструю смену событ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т север, тучи нагоня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охнул, завыл – и вот са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Идет волшебница зим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4920" y="188640"/>
            <a:ext cx="820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ложносочиненном предложении                         запятая не стави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9c007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его части объединены общим второстепенным членом или общим придаточным предложени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везды уже начали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леднеть и небо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ерело, когда коляска подъехала к крыльцу домика на Васильевск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Если все его части являются вопросительными, побудительными, восклицательными предложения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Это кто такие и что им надобно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500"/>
                            </p:stCondLst>
                            <p:childTnLst>
                              <p:par>
                                <p:cTn id="43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8500"/>
                            </p:stCondLst>
                            <p:childTnLst>
                              <p:par>
                                <p:cTn id="45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6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1:52:25Z</dcterms:created>
  <dc:creator>Дашено</dc:creator>
  <dc:description/>
  <dc:language>en-US</dc:language>
  <cp:lastModifiedBy>студент</cp:lastModifiedBy>
  <dcterms:modified xsi:type="dcterms:W3CDTF">2011-04-12T10:53:07Z</dcterms:modified>
  <cp:revision>14</cp:revision>
  <dc:subject/>
  <dc:title>Сложносочиненные предложения</dc:title>
</cp:coreProperties>
</file>